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B02B-657C-4667-A3B4-5CA8CAD9AC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4087-63B9-449C-B3B6-702A44FF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E861-1C9B-4843-AC89-91CF616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EA81-50C5-42F0-B7D6-06E51FF82B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F605-D911-419A-9EEE-D84042A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4344-4D7C-420F-AD37-B804363E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9E3F-FD63-4F2C-8B72-83B3F369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6556-3927-44D1-9887-BE64C6AD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0F8F-DA4F-4CB5-83FE-2C7BF636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8DBD-8442-4086-A8CD-3DB85B6B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A03A-9C23-482E-AD2C-6C41088C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562A-8690-4847-AD33-A5230C3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73A2E0-4EC1-44DB-8B42-BCA28745ADD9}" type="slidenum">
              <a:rPr b="0" lang="es-E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987640" y="765000"/>
            <a:ext cx="302436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erifér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92000" y="1919160"/>
            <a:ext cx="223236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eriféricos de entrad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419640" y="1916280"/>
            <a:ext cx="2160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eriféricos de salid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227640" y="1906560"/>
            <a:ext cx="216072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eriféricos de entrada y salid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732720" y="3424320"/>
            <a:ext cx="216036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eriféricos de comunic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427640" y="3429000"/>
            <a:ext cx="216036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eriféricos de almacenamien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Line 7"/>
          <p:cNvSpPr/>
          <p:nvPr/>
        </p:nvSpPr>
        <p:spPr>
          <a:xfrm>
            <a:off x="1908000" y="1484280"/>
            <a:ext cx="54007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Line 8"/>
          <p:cNvSpPr/>
          <p:nvPr/>
        </p:nvSpPr>
        <p:spPr>
          <a:xfrm>
            <a:off x="5292720" y="2992320"/>
            <a:ext cx="2519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500720" y="1268280"/>
            <a:ext cx="1440" cy="64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1908000" y="1484280"/>
            <a:ext cx="180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7308720" y="1474920"/>
            <a:ext cx="180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6948360" y="2492280"/>
            <a:ext cx="180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5292720" y="2992320"/>
            <a:ext cx="1440" cy="482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7831080" y="2992320"/>
            <a:ext cx="180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1"/>
          <a:stretch/>
        </p:blipFill>
        <p:spPr>
          <a:xfrm>
            <a:off x="181080" y="4068720"/>
            <a:ext cx="57592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720720"/>
            <a:ext cx="2286000" cy="6137280"/>
          </a:xfrm>
          <a:prstGeom prst="rect">
            <a:avLst/>
          </a:prstGeom>
          <a:solidFill>
            <a:srgbClr val="b9cde5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41120" y="2562120"/>
            <a:ext cx="21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eclad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crófon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cáne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atón o mous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cáner de códig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barra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ámara web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ápiz óptic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Periféricos de entra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340000" y="8809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miten introducir datos al ordenador, para su posterior tratamiento por parte de la CPU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5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rcRect l="3576" t="1860" r="0" b="0"/>
          <a:stretch/>
        </p:blipFill>
        <p:spPr>
          <a:xfrm>
            <a:off x="7145280" y="3271680"/>
            <a:ext cx="1998720" cy="353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2519280" y="1763640"/>
            <a:ext cx="5399280" cy="174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rcRect l="2749" t="2020" r="0" b="0"/>
          <a:stretch/>
        </p:blipFill>
        <p:spPr>
          <a:xfrm>
            <a:off x="2557440" y="3924360"/>
            <a:ext cx="1347840" cy="1763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6951600" y="3203640"/>
            <a:ext cx="9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Tecla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519280" y="5904000"/>
            <a:ext cx="14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Cámara we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078520" y="5148360"/>
            <a:ext cx="7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Rat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300720" y="63007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Micrófo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8" name="2 Grupo"/>
          <p:cNvGrpSpPr/>
          <p:nvPr/>
        </p:nvGrpSpPr>
        <p:grpSpPr>
          <a:xfrm>
            <a:off x="4572000" y="3887640"/>
            <a:ext cx="1908000" cy="1044720"/>
            <a:chOff x="4572000" y="3887640"/>
            <a:chExt cx="1908000" cy="1044720"/>
          </a:xfrm>
        </p:grpSpPr>
        <p:pic>
          <p:nvPicPr>
            <p:cNvPr id="69" name="Picture 7" descr=""/>
            <p:cNvPicPr/>
            <p:nvPr/>
          </p:nvPicPr>
          <p:blipFill>
            <a:blip r:embed="rId4"/>
            <a:srcRect l="0" t="6866" r="0" b="0"/>
            <a:stretch/>
          </p:blipFill>
          <p:spPr>
            <a:xfrm>
              <a:off x="4679640" y="3980160"/>
              <a:ext cx="18003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1 Rectángulo"/>
            <p:cNvSpPr/>
            <p:nvPr/>
          </p:nvSpPr>
          <p:spPr>
            <a:xfrm>
              <a:off x="4572000" y="3887640"/>
              <a:ext cx="144000" cy="10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519280" y="9716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ciben información procesada por la CPU y la reproducen para que sea perceptible por el usuari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-17640" y="720720"/>
            <a:ext cx="2286000" cy="6119640"/>
          </a:xfrm>
          <a:prstGeom prst="rect">
            <a:avLst/>
          </a:prstGeom>
          <a:solidFill>
            <a:srgbClr val="b9cde5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Periféricos de sali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08000" y="267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nito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mpresor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x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rjeta de sonid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avoz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AutoShape 5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rcRect l="970" t="0" r="0" b="0"/>
          <a:stretch/>
        </p:blipFill>
        <p:spPr>
          <a:xfrm>
            <a:off x="5398920" y="4108320"/>
            <a:ext cx="3564000" cy="247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rcRect l="3404" t="4796" r="0" b="0"/>
          <a:stretch/>
        </p:blipFill>
        <p:spPr>
          <a:xfrm>
            <a:off x="2714760" y="4792680"/>
            <a:ext cx="2419200" cy="1401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635280" y="4176720"/>
            <a:ext cx="14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Moni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983280" y="3522600"/>
            <a:ext cx="14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Altavoc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916360" y="6140520"/>
            <a:ext cx="19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Tarjeta de soni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451640" y="6300720"/>
            <a:ext cx="147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Fa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2" name="6 Grupo"/>
          <p:cNvGrpSpPr/>
          <p:nvPr/>
        </p:nvGrpSpPr>
        <p:grpSpPr>
          <a:xfrm>
            <a:off x="6800760" y="1728720"/>
            <a:ext cx="1803600" cy="1800360"/>
            <a:chOff x="6800760" y="1728720"/>
            <a:chExt cx="1803600" cy="1800360"/>
          </a:xfrm>
        </p:grpSpPr>
        <p:pic>
          <p:nvPicPr>
            <p:cNvPr id="83" name="Picture 6" descr=""/>
            <p:cNvPicPr/>
            <p:nvPr/>
          </p:nvPicPr>
          <p:blipFill>
            <a:blip r:embed="rId3"/>
            <a:stretch/>
          </p:blipFill>
          <p:spPr>
            <a:xfrm>
              <a:off x="6802920" y="1728720"/>
              <a:ext cx="17280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2 Conector recto"/>
            <p:cNvSpPr/>
            <p:nvPr/>
          </p:nvSpPr>
          <p:spPr>
            <a:xfrm>
              <a:off x="6802920" y="1728720"/>
              <a:ext cx="180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16 Conector recto"/>
            <p:cNvSpPr/>
            <p:nvPr/>
          </p:nvSpPr>
          <p:spPr>
            <a:xfrm>
              <a:off x="6800760" y="1728720"/>
              <a:ext cx="0" cy="18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6" name="8 Conector recto"/>
          <p:cNvSpPr/>
          <p:nvPr/>
        </p:nvSpPr>
        <p:spPr>
          <a:xfrm>
            <a:off x="5364000" y="4108320"/>
            <a:ext cx="35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7" name="12 Grupo"/>
          <p:cNvGrpSpPr/>
          <p:nvPr/>
        </p:nvGrpSpPr>
        <p:grpSpPr>
          <a:xfrm>
            <a:off x="2411280" y="1800360"/>
            <a:ext cx="3240360" cy="2307960"/>
            <a:chOff x="2411280" y="1800360"/>
            <a:chExt cx="3240360" cy="2307960"/>
          </a:xfrm>
        </p:grpSpPr>
        <p:pic>
          <p:nvPicPr>
            <p:cNvPr id="88" name="Picture 8" descr=""/>
            <p:cNvPicPr/>
            <p:nvPr/>
          </p:nvPicPr>
          <p:blipFill>
            <a:blip r:embed="rId4"/>
            <a:stretch/>
          </p:blipFill>
          <p:spPr>
            <a:xfrm>
              <a:off x="2879280" y="1800360"/>
              <a:ext cx="251964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23 Conector recto"/>
            <p:cNvSpPr/>
            <p:nvPr/>
          </p:nvSpPr>
          <p:spPr>
            <a:xfrm>
              <a:off x="2411280" y="1800360"/>
              <a:ext cx="3240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11 Conector recto"/>
            <p:cNvSpPr/>
            <p:nvPr/>
          </p:nvSpPr>
          <p:spPr>
            <a:xfrm>
              <a:off x="2879280" y="1800360"/>
              <a:ext cx="0" cy="230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519280" y="96840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los que utiliza el ordenador tanto para mandar como para recibir información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7640" y="720720"/>
            <a:ext cx="2286000" cy="6119640"/>
          </a:xfrm>
          <a:prstGeom prst="rect">
            <a:avLst/>
          </a:prstGeom>
          <a:solidFill>
            <a:srgbClr val="b9cde5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3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16000" y="284328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ntalla táctil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iféricos de almacenamien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iféricos de comunicació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Periféricos de entrada y sali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3060720" y="1685880"/>
            <a:ext cx="5040360" cy="4506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2879640" y="611496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Pantalla tácti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448000" y="97164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periféricos de entrada y salida que s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cargan de almacenar de forma permanente los datos de los que hace uso la CPU, para que puedan recuperarse una vez que han sido eliminados de la memoria RAM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763560"/>
            <a:ext cx="2286000" cy="6120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Periféricos de almacenamient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2160720"/>
            <a:ext cx="194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co dur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quet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dad de C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dad de DV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dad de Blu-ray Dis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moria flash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inta magnétic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2812" t="3772" r="0" b="0"/>
          <a:stretch/>
        </p:blipFill>
        <p:spPr>
          <a:xfrm>
            <a:off x="5877000" y="4030560"/>
            <a:ext cx="279864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7020000" y="5940360"/>
            <a:ext cx="21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isco duro exter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759280" y="3240000"/>
            <a:ext cx="12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isquet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6" name="2 Grupo"/>
          <p:cNvGrpSpPr/>
          <p:nvPr/>
        </p:nvGrpSpPr>
        <p:grpSpPr>
          <a:xfrm>
            <a:off x="2558880" y="2714760"/>
            <a:ext cx="2913120" cy="1641240"/>
            <a:chOff x="2558880" y="2714760"/>
            <a:chExt cx="2913120" cy="1641240"/>
          </a:xfrm>
        </p:grpSpPr>
        <p:pic>
          <p:nvPicPr>
            <p:cNvPr id="107" name="Picture 7" descr=""/>
            <p:cNvPicPr/>
            <p:nvPr/>
          </p:nvPicPr>
          <p:blipFill>
            <a:blip r:embed="rId2"/>
            <a:srcRect l="0" t="4162" r="0" b="0"/>
            <a:stretch/>
          </p:blipFill>
          <p:spPr>
            <a:xfrm>
              <a:off x="2591640" y="2714760"/>
              <a:ext cx="288036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1 Rectángulo"/>
            <p:cNvSpPr/>
            <p:nvPr/>
          </p:nvSpPr>
          <p:spPr>
            <a:xfrm>
              <a:off x="2558880" y="2714760"/>
              <a:ext cx="45720" cy="16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9" name="Text Box 10"/>
          <p:cNvSpPr/>
          <p:nvPr/>
        </p:nvSpPr>
        <p:spPr>
          <a:xfrm>
            <a:off x="2519280" y="395928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Unida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e CD/DV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0" name="4 Grupo"/>
          <p:cNvGrpSpPr/>
          <p:nvPr/>
        </p:nvGrpSpPr>
        <p:grpSpPr>
          <a:xfrm>
            <a:off x="6875640" y="1268280"/>
            <a:ext cx="2160360" cy="2332080"/>
            <a:chOff x="6875640" y="1268280"/>
            <a:chExt cx="2160360" cy="2332080"/>
          </a:xfrm>
        </p:grpSpPr>
        <p:pic>
          <p:nvPicPr>
            <p:cNvPr id="111" name="Picture 8" descr=""/>
            <p:cNvPicPr/>
            <p:nvPr/>
          </p:nvPicPr>
          <p:blipFill>
            <a:blip r:embed="rId3"/>
            <a:srcRect l="6278" t="0" r="0" b="0"/>
            <a:stretch/>
          </p:blipFill>
          <p:spPr>
            <a:xfrm>
              <a:off x="7020000" y="1439280"/>
              <a:ext cx="1942560" cy="21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3 Rectángulo"/>
            <p:cNvSpPr/>
            <p:nvPr/>
          </p:nvSpPr>
          <p:spPr>
            <a:xfrm>
              <a:off x="6875640" y="1268280"/>
              <a:ext cx="2160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3" name="8 Grupo"/>
          <p:cNvGrpSpPr/>
          <p:nvPr/>
        </p:nvGrpSpPr>
        <p:grpSpPr>
          <a:xfrm>
            <a:off x="2700360" y="4935600"/>
            <a:ext cx="2160720" cy="1349280"/>
            <a:chOff x="2700360" y="4935600"/>
            <a:chExt cx="2160720" cy="1349280"/>
          </a:xfrm>
        </p:grpSpPr>
        <p:pic>
          <p:nvPicPr>
            <p:cNvPr id="114" name="Picture 9" descr=""/>
            <p:cNvPicPr/>
            <p:nvPr/>
          </p:nvPicPr>
          <p:blipFill>
            <a:blip r:embed="rId4"/>
            <a:srcRect l="0" t="5379" r="0" b="0"/>
            <a:stretch/>
          </p:blipFill>
          <p:spPr>
            <a:xfrm>
              <a:off x="2700360" y="4935600"/>
              <a:ext cx="2160720" cy="13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7 Conector recto"/>
            <p:cNvSpPr/>
            <p:nvPr/>
          </p:nvSpPr>
          <p:spPr>
            <a:xfrm>
              <a:off x="2700360" y="493560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319640" y="5796000"/>
            <a:ext cx="180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Memoria flash </a:t>
            </a:r>
            <a:r>
              <a:rPr b="0" i="1" lang="es-ES" sz="1800" spc="-1" strike="noStrike">
                <a:solidFill>
                  <a:srgbClr val="00ae00"/>
                </a:solidFill>
                <a:latin typeface="Calibri"/>
              </a:rPr>
              <a:t>(pendriv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-6480" y="738360"/>
            <a:ext cx="2286000" cy="6119640"/>
          </a:xfrm>
          <a:prstGeom prst="rect">
            <a:avLst/>
          </a:prstGeom>
          <a:solidFill>
            <a:srgbClr val="b9cde5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411280" y="900000"/>
            <a:ext cx="63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miten o facilitan el intercambio de información entre dos o más ordenadores, o entre un ordenador y otro periférico externo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Periféricos de comunicació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AutoShape 4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70000" y="2390760"/>
            <a:ext cx="207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x-módem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rjeta de re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centrador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(hub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rutador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(router)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rjeta inalámbric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mutador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(switch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929" t="2951" r="0" b="0"/>
          <a:stretch/>
        </p:blipFill>
        <p:spPr>
          <a:xfrm>
            <a:off x="3676680" y="1558800"/>
            <a:ext cx="3882960" cy="2368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2700360" y="6048360"/>
            <a:ext cx="251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Tarjeta inalámbric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480000" y="6048360"/>
            <a:ext cx="216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Tarjeta de r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5" name="7 Grupo"/>
          <p:cNvGrpSpPr/>
          <p:nvPr/>
        </p:nvGrpSpPr>
        <p:grpSpPr>
          <a:xfrm>
            <a:off x="5940360" y="3924360"/>
            <a:ext cx="2879640" cy="2124000"/>
            <a:chOff x="5940360" y="3924360"/>
            <a:chExt cx="2879640" cy="2124000"/>
          </a:xfrm>
        </p:grpSpPr>
        <p:grpSp>
          <p:nvGrpSpPr>
            <p:cNvPr id="126" name="5 Grupo"/>
            <p:cNvGrpSpPr/>
            <p:nvPr/>
          </p:nvGrpSpPr>
          <p:grpSpPr>
            <a:xfrm>
              <a:off x="5940360" y="3924360"/>
              <a:ext cx="2879640" cy="2124000"/>
              <a:chOff x="5940360" y="3924360"/>
              <a:chExt cx="2879640" cy="2124000"/>
            </a:xfrm>
          </p:grpSpPr>
          <p:pic>
            <p:nvPicPr>
              <p:cNvPr id="127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0360" y="3959280"/>
                <a:ext cx="2879640" cy="203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4 Rectángulo"/>
              <p:cNvSpPr/>
              <p:nvPr/>
            </p:nvSpPr>
            <p:spPr>
              <a:xfrm>
                <a:off x="5940360" y="3924360"/>
                <a:ext cx="45720" cy="21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29" name="6 Rectángulo"/>
            <p:cNvSpPr/>
            <p:nvPr/>
          </p:nvSpPr>
          <p:spPr>
            <a:xfrm>
              <a:off x="5940360" y="3924360"/>
              <a:ext cx="287964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0" name="3 Grupo"/>
          <p:cNvGrpSpPr/>
          <p:nvPr/>
        </p:nvGrpSpPr>
        <p:grpSpPr>
          <a:xfrm>
            <a:off x="2556000" y="4384800"/>
            <a:ext cx="2501640" cy="1611360"/>
            <a:chOff x="2556000" y="4384800"/>
            <a:chExt cx="2501640" cy="1611360"/>
          </a:xfrm>
        </p:grpSpPr>
        <p:pic>
          <p:nvPicPr>
            <p:cNvPr id="131" name="Picture 6" descr=""/>
            <p:cNvPicPr/>
            <p:nvPr/>
          </p:nvPicPr>
          <p:blipFill>
            <a:blip r:embed="rId3"/>
            <a:stretch/>
          </p:blipFill>
          <p:spPr>
            <a:xfrm>
              <a:off x="2683080" y="4471560"/>
              <a:ext cx="2374560" cy="14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1 Rectángulo"/>
            <p:cNvSpPr/>
            <p:nvPr/>
          </p:nvSpPr>
          <p:spPr>
            <a:xfrm>
              <a:off x="2556000" y="4471560"/>
              <a:ext cx="144360" cy="152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2 Rectángulo"/>
            <p:cNvSpPr/>
            <p:nvPr/>
          </p:nvSpPr>
          <p:spPr>
            <a:xfrm>
              <a:off x="2628000" y="4384800"/>
              <a:ext cx="2429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4" name="Text Box 11"/>
          <p:cNvSpPr/>
          <p:nvPr/>
        </p:nvSpPr>
        <p:spPr>
          <a:xfrm>
            <a:off x="4500720" y="3924360"/>
            <a:ext cx="233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Enrutador</a:t>
            </a:r>
            <a:r>
              <a:rPr b="0" i="1" lang="es-ES" sz="1800" spc="-1" strike="noStrike">
                <a:solidFill>
                  <a:srgbClr val="00ae00"/>
                </a:solidFill>
                <a:latin typeface="Calibri"/>
              </a:rPr>
              <a:t> (router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1:04:23Z</dcterms:created>
  <dc:creator>Enrique Sanchez Ludeña</dc:creator>
  <dc:description/>
  <dc:language>en-US</dc:language>
  <cp:lastModifiedBy>Enrique Sanchez Ludeña</cp:lastModifiedBy>
  <dcterms:modified xsi:type="dcterms:W3CDTF">2011-04-28T08:33:23Z</dcterms:modified>
  <cp:revision>18</cp:revision>
  <dc:subject/>
  <dc:title>Periféricos</dc:title>
</cp:coreProperties>
</file>