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E373-5BCD-49BE-A73A-F603B0FFBF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339C-1BAF-4949-BEF6-6568DCF9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221D-F209-4C01-A53A-725DBCB5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C7C1-AFCA-416D-A6EB-14B1D70A10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4C49-6635-4902-A298-A7B21CB7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1516-97E6-4980-84D6-8345F3E1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17B3-4BE1-4970-9831-4AD451C4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C96F-1744-4EF6-802C-367791C2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0167-2732-4135-8D07-B3896CDA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B148-4B50-4B9C-8B66-29512398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A0F8-4EC5-42B0-969B-F1A1F666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79C6-DB2D-4DCE-8E43-17888275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55AAE-A73C-409B-ADB1-C924C69F7AA9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507960" y="720720"/>
            <a:ext cx="77724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ispositivos de almacenamient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5759640" cy="38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-23760" y="0"/>
            <a:ext cx="9167760" cy="836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Tarjeta micro S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3520" y="1295280"/>
            <a:ext cx="558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 un tipo de tarjeta SD cuyo tamaño es todaví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ás pequeño qu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l de la tarjet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iniS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utiliza en dispositivos en los que la reducción de tamaño es importante; como es el caso de lo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eléfonos móvil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los navegadore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P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o la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sola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e videojuegos de mano (Nintendo, GameBoy)..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1998" t="4990" r="0" b="4990"/>
          <a:stretch/>
        </p:blipFill>
        <p:spPr>
          <a:xfrm>
            <a:off x="5257800" y="3886200"/>
            <a:ext cx="3581280" cy="2505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rcRect l="4882" t="3384" r="0" b="0"/>
          <a:stretch/>
        </p:blipFill>
        <p:spPr>
          <a:xfrm>
            <a:off x="6559560" y="1441440"/>
            <a:ext cx="1617480" cy="1984320"/>
          </a:xfrm>
          <a:prstGeom prst="rect">
            <a:avLst/>
          </a:prstGeom>
          <a:ln w="0">
            <a:noFill/>
          </a:ln>
        </p:spPr>
      </p:pic>
      <p:sp>
        <p:nvSpPr>
          <p:cNvPr id="132" name="7 Botón de acción: Comienzo">
            <a:hlinkClick r:id="" action="ppaction://hlinkshowjump?jump=firstslide"/>
          </p:cNvPr>
          <p:cNvSpPr/>
          <p:nvPr/>
        </p:nvSpPr>
        <p:spPr>
          <a:xfrm>
            <a:off x="395280" y="6300720"/>
            <a:ext cx="431640" cy="365040"/>
          </a:xfrm>
          <a:custGeom>
            <a:avLst/>
            <a:gdLst>
              <a:gd name="textAreaLeft" fmla="*/ 23400 w 431640"/>
              <a:gd name="textAreaRight" fmla="*/ 408240 w 4316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5537" h="21600">
                <a:moveTo>
                  <a:pt x="0" y="0"/>
                </a:moveTo>
                <a:lnTo>
                  <a:pt x="25537" y="0"/>
                </a:lnTo>
                <a:lnTo>
                  <a:pt x="25537" y="21600"/>
                </a:lnTo>
                <a:lnTo>
                  <a:pt x="0" y="21600"/>
                </a:lnTo>
                <a:close/>
              </a:path>
              <a:path fill="lightenLess" w="25537" h="21600">
                <a:moveTo>
                  <a:pt x="0" y="0"/>
                </a:moveTo>
                <a:lnTo>
                  <a:pt x="25537" y="0"/>
                </a:lnTo>
                <a:lnTo>
                  <a:pt x="24137" y="1400"/>
                </a:lnTo>
                <a:lnTo>
                  <a:pt x="1400" y="1400"/>
                </a:lnTo>
                <a:close/>
              </a:path>
              <a:path fill="darken" w="25537" h="21600">
                <a:moveTo>
                  <a:pt x="25537" y="0"/>
                </a:moveTo>
                <a:lnTo>
                  <a:pt x="25537" y="21600"/>
                </a:lnTo>
                <a:lnTo>
                  <a:pt x="24137" y="20200"/>
                </a:lnTo>
                <a:lnTo>
                  <a:pt x="24137" y="1400"/>
                </a:lnTo>
                <a:close/>
              </a:path>
              <a:path fill="darkenLess" w="25537" h="21600">
                <a:moveTo>
                  <a:pt x="25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7" y="20200"/>
                </a:lnTo>
                <a:close/>
              </a:path>
              <a:path fill="lighten" w="25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7" h="21600">
                <a:moveTo>
                  <a:pt x="9270" y="10800"/>
                </a:moveTo>
                <a:lnTo>
                  <a:pt x="19775" y="3794"/>
                </a:lnTo>
                <a:lnTo>
                  <a:pt x="19775" y="17806"/>
                </a:lnTo>
                <a:close/>
              </a:path>
              <a:path fill="darken" w="25537" h="21600">
                <a:moveTo>
                  <a:pt x="5762" y="3794"/>
                </a:moveTo>
                <a:lnTo>
                  <a:pt x="7424" y="3794"/>
                </a:lnTo>
                <a:lnTo>
                  <a:pt x="7424" y="17806"/>
                </a:lnTo>
                <a:lnTo>
                  <a:pt x="5762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3" name="3 Grupo"/>
          <p:cNvGrpSpPr/>
          <p:nvPr/>
        </p:nvGrpSpPr>
        <p:grpSpPr>
          <a:xfrm>
            <a:off x="1152360" y="3657600"/>
            <a:ext cx="3178440" cy="2481120"/>
            <a:chOff x="1152360" y="3657600"/>
            <a:chExt cx="3178440" cy="2481120"/>
          </a:xfrm>
        </p:grpSpPr>
        <p:pic>
          <p:nvPicPr>
            <p:cNvPr id="134" name="Picture 5" descr=""/>
            <p:cNvPicPr/>
            <p:nvPr/>
          </p:nvPicPr>
          <p:blipFill>
            <a:blip r:embed="rId3"/>
            <a:srcRect l="2640" t="0" r="0" b="0"/>
            <a:stretch/>
          </p:blipFill>
          <p:spPr>
            <a:xfrm>
              <a:off x="1152360" y="3657600"/>
              <a:ext cx="317844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2 Conector recto"/>
            <p:cNvSpPr/>
            <p:nvPr/>
          </p:nvSpPr>
          <p:spPr>
            <a:xfrm>
              <a:off x="1152360" y="3657600"/>
              <a:ext cx="317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rcRect l="2131" t="2475" r="0" b="0"/>
          <a:stretch/>
        </p:blipFill>
        <p:spPr>
          <a:xfrm>
            <a:off x="1917720" y="3355920"/>
            <a:ext cx="4102200" cy="3125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533520" y="1066680"/>
            <a:ext cx="43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ácticamente igual a la tarjeta S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uede utilizarse en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ispositivos con ranuras SD, pero no al contrari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; es decir, las tarjetas SD no caben en las ranuras MM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utilizan en te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éfonos móviles, PDA, cámaras fotográficas digitales,reproductores de audio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-23760" y="0"/>
            <a:ext cx="9167760" cy="836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Tarjeta MMC (MultiMedia Card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rcRect l="4348" t="3152" r="0" b="0"/>
          <a:stretch/>
        </p:blipFill>
        <p:spPr>
          <a:xfrm>
            <a:off x="6281640" y="1392120"/>
            <a:ext cx="2127240" cy="2951280"/>
          </a:xfrm>
          <a:prstGeom prst="rect">
            <a:avLst/>
          </a:prstGeom>
          <a:ln w="0">
            <a:noFill/>
          </a:ln>
        </p:spPr>
      </p:pic>
      <p:sp>
        <p:nvSpPr>
          <p:cNvPr id="140" name="5 Botón de acción: Comienzo">
            <a:hlinkClick r:id="" action="ppaction://hlinkshowjump?jump=firstslide"/>
          </p:cNvPr>
          <p:cNvSpPr/>
          <p:nvPr/>
        </p:nvSpPr>
        <p:spPr>
          <a:xfrm>
            <a:off x="395280" y="6300720"/>
            <a:ext cx="431640" cy="365040"/>
          </a:xfrm>
          <a:custGeom>
            <a:avLst/>
            <a:gdLst>
              <a:gd name="textAreaLeft" fmla="*/ 23400 w 431640"/>
              <a:gd name="textAreaRight" fmla="*/ 408240 w 4316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5537" h="21600">
                <a:moveTo>
                  <a:pt x="0" y="0"/>
                </a:moveTo>
                <a:lnTo>
                  <a:pt x="25537" y="0"/>
                </a:lnTo>
                <a:lnTo>
                  <a:pt x="25537" y="21600"/>
                </a:lnTo>
                <a:lnTo>
                  <a:pt x="0" y="21600"/>
                </a:lnTo>
                <a:close/>
              </a:path>
              <a:path fill="lightenLess" w="25537" h="21600">
                <a:moveTo>
                  <a:pt x="0" y="0"/>
                </a:moveTo>
                <a:lnTo>
                  <a:pt x="25537" y="0"/>
                </a:lnTo>
                <a:lnTo>
                  <a:pt x="24137" y="1400"/>
                </a:lnTo>
                <a:lnTo>
                  <a:pt x="1400" y="1400"/>
                </a:lnTo>
                <a:close/>
              </a:path>
              <a:path fill="darken" w="25537" h="21600">
                <a:moveTo>
                  <a:pt x="25537" y="0"/>
                </a:moveTo>
                <a:lnTo>
                  <a:pt x="25537" y="21600"/>
                </a:lnTo>
                <a:lnTo>
                  <a:pt x="24137" y="20200"/>
                </a:lnTo>
                <a:lnTo>
                  <a:pt x="24137" y="1400"/>
                </a:lnTo>
                <a:close/>
              </a:path>
              <a:path fill="darkenLess" w="25537" h="21600">
                <a:moveTo>
                  <a:pt x="25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7" y="20200"/>
                </a:lnTo>
                <a:close/>
              </a:path>
              <a:path fill="lighten" w="25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7" h="21600">
                <a:moveTo>
                  <a:pt x="9270" y="10800"/>
                </a:moveTo>
                <a:lnTo>
                  <a:pt x="19775" y="3794"/>
                </a:lnTo>
                <a:lnTo>
                  <a:pt x="19775" y="17806"/>
                </a:lnTo>
                <a:close/>
              </a:path>
              <a:path fill="darken" w="25537" h="21600">
                <a:moveTo>
                  <a:pt x="5762" y="3794"/>
                </a:moveTo>
                <a:lnTo>
                  <a:pt x="7424" y="3794"/>
                </a:lnTo>
                <a:lnTo>
                  <a:pt x="7424" y="17806"/>
                </a:lnTo>
                <a:lnTo>
                  <a:pt x="5762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rcRect l="3581" t="4365" r="3581" b="0"/>
          <a:stretch/>
        </p:blipFill>
        <p:spPr>
          <a:xfrm>
            <a:off x="4114800" y="1143000"/>
            <a:ext cx="3962520" cy="1984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"/>
          <p:cNvSpPr/>
          <p:nvPr/>
        </p:nvSpPr>
        <p:spPr>
          <a:xfrm>
            <a:off x="539640" y="1484280"/>
            <a:ext cx="281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ercializada por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ony,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s la tarjeta de memoria que utilizan sus dispositivos portátiles: cámaras fotográficas, cámaras de vídeo y videoconsolas (PSP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-23760" y="0"/>
            <a:ext cx="9167760" cy="836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Memory stic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4610160" cy="3068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5" name="5 Botón de acción: Comienzo">
            <a:hlinkClick r:id="" action="ppaction://hlinkshowjump?jump=firstslide"/>
          </p:cNvPr>
          <p:cNvSpPr/>
          <p:nvPr/>
        </p:nvSpPr>
        <p:spPr>
          <a:xfrm>
            <a:off x="395280" y="6300720"/>
            <a:ext cx="431640" cy="365040"/>
          </a:xfrm>
          <a:custGeom>
            <a:avLst/>
            <a:gdLst>
              <a:gd name="textAreaLeft" fmla="*/ 23400 w 431640"/>
              <a:gd name="textAreaRight" fmla="*/ 408240 w 4316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5537" h="21600">
                <a:moveTo>
                  <a:pt x="0" y="0"/>
                </a:moveTo>
                <a:lnTo>
                  <a:pt x="25537" y="0"/>
                </a:lnTo>
                <a:lnTo>
                  <a:pt x="25537" y="21600"/>
                </a:lnTo>
                <a:lnTo>
                  <a:pt x="0" y="21600"/>
                </a:lnTo>
                <a:close/>
              </a:path>
              <a:path fill="lightenLess" w="25537" h="21600">
                <a:moveTo>
                  <a:pt x="0" y="0"/>
                </a:moveTo>
                <a:lnTo>
                  <a:pt x="25537" y="0"/>
                </a:lnTo>
                <a:lnTo>
                  <a:pt x="24137" y="1400"/>
                </a:lnTo>
                <a:lnTo>
                  <a:pt x="1400" y="1400"/>
                </a:lnTo>
                <a:close/>
              </a:path>
              <a:path fill="darken" w="25537" h="21600">
                <a:moveTo>
                  <a:pt x="25537" y="0"/>
                </a:moveTo>
                <a:lnTo>
                  <a:pt x="25537" y="21600"/>
                </a:lnTo>
                <a:lnTo>
                  <a:pt x="24137" y="20200"/>
                </a:lnTo>
                <a:lnTo>
                  <a:pt x="24137" y="1400"/>
                </a:lnTo>
                <a:close/>
              </a:path>
              <a:path fill="darkenLess" w="25537" h="21600">
                <a:moveTo>
                  <a:pt x="25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7" y="20200"/>
                </a:lnTo>
                <a:close/>
              </a:path>
              <a:path fill="lighten" w="25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7" h="21600">
                <a:moveTo>
                  <a:pt x="9270" y="10800"/>
                </a:moveTo>
                <a:lnTo>
                  <a:pt x="19775" y="3794"/>
                </a:lnTo>
                <a:lnTo>
                  <a:pt x="19775" y="17806"/>
                </a:lnTo>
                <a:close/>
              </a:path>
              <a:path fill="darken" w="25537" h="21600">
                <a:moveTo>
                  <a:pt x="5762" y="3794"/>
                </a:moveTo>
                <a:lnTo>
                  <a:pt x="7424" y="3794"/>
                </a:lnTo>
                <a:lnTo>
                  <a:pt x="7424" y="17806"/>
                </a:lnTo>
                <a:lnTo>
                  <a:pt x="5762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Disquetes y cintas magnétic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>
            <a:hlinkClick r:id="" action="ppaction://hlinkshowjump?jump=firstslide"/>
          </p:cNvPr>
          <p:cNvSpPr/>
          <p:nvPr/>
        </p:nvSpPr>
        <p:spPr>
          <a:xfrm>
            <a:off x="324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5562720" y="3276720"/>
            <a:ext cx="144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Disquet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6" name="4 Grupo"/>
          <p:cNvGrpSpPr/>
          <p:nvPr/>
        </p:nvGrpSpPr>
        <p:grpSpPr>
          <a:xfrm>
            <a:off x="6095880" y="990720"/>
            <a:ext cx="2438640" cy="2286000"/>
            <a:chOff x="6095880" y="990720"/>
            <a:chExt cx="2438640" cy="2286000"/>
          </a:xfrm>
        </p:grpSpPr>
        <p:pic>
          <p:nvPicPr>
            <p:cNvPr id="47" name="Picture 8" descr=""/>
            <p:cNvPicPr/>
            <p:nvPr/>
          </p:nvPicPr>
          <p:blipFill>
            <a:blip r:embed="rId1"/>
            <a:srcRect l="6278" t="0" r="0" b="0"/>
            <a:stretch/>
          </p:blipFill>
          <p:spPr>
            <a:xfrm>
              <a:off x="6258600" y="1158480"/>
              <a:ext cx="2192760" cy="21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3 Rectángulo"/>
            <p:cNvSpPr/>
            <p:nvPr/>
          </p:nvSpPr>
          <p:spPr>
            <a:xfrm>
              <a:off x="6095880" y="990720"/>
              <a:ext cx="243864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9" name="1 CuadroTexto"/>
          <p:cNvSpPr/>
          <p:nvPr/>
        </p:nvSpPr>
        <p:spPr>
          <a:xfrm>
            <a:off x="457200" y="990720"/>
            <a:ext cx="510552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isten en una superficie mag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ética sobre la que se graba la información por polarizació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s de menor tamaño pueden ser utilizados, además de para almacenar, para  transportar información; tal es el caso de los floppy y los disquetes de 3,5’’ (actualmente en desuso) o lo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os duro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chas de las unidades especiales de gran capacidad que se utilizan para realizar copias de seguridad o respaldo en empresas y centros de investigación, est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án constituidas por cintas magnética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 Su capacidad de almacenamiento puede ser de cientos de gigabyte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6626160" y="60199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Cinta de dat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" name="5 Grupo"/>
          <p:cNvGrpSpPr/>
          <p:nvPr/>
        </p:nvGrpSpPr>
        <p:grpSpPr>
          <a:xfrm>
            <a:off x="5364000" y="3641760"/>
            <a:ext cx="3311640" cy="2655720"/>
            <a:chOff x="5364000" y="3641760"/>
            <a:chExt cx="3311640" cy="2655720"/>
          </a:xfrm>
        </p:grpSpPr>
        <p:pic>
          <p:nvPicPr>
            <p:cNvPr id="52" name="Picture 13" descr="1_cintadatos"/>
            <p:cNvPicPr/>
            <p:nvPr/>
          </p:nvPicPr>
          <p:blipFill>
            <a:blip r:embed="rId2"/>
            <a:stretch/>
          </p:blipFill>
          <p:spPr>
            <a:xfrm>
              <a:off x="5486040" y="3733560"/>
              <a:ext cx="3123720" cy="240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2 Conector recto"/>
            <p:cNvSpPr/>
            <p:nvPr/>
          </p:nvSpPr>
          <p:spPr>
            <a:xfrm>
              <a:off x="5364000" y="3733560"/>
              <a:ext cx="331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4 Conector recto"/>
            <p:cNvSpPr/>
            <p:nvPr/>
          </p:nvSpPr>
          <p:spPr>
            <a:xfrm>
              <a:off x="5486040" y="3641760"/>
              <a:ext cx="0" cy="2655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609480" y="1182600"/>
            <a:ext cx="518184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án formados por un conjunto de discos apilados con un eje com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ún entre los que se encuentran las cabezas de lectura y escritura, haciendo posibles ambas operaciones sobre las dos caras de cada disc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eden ser internos o externos al ordenado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isten discos duros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pacidades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y diversas, cada vez mayores,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de los 500 GB hasta varios Terabyt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Disco dur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4">
            <a:hlinkClick r:id="" action="ppaction://hlinkshowjump?jump=firstslide"/>
          </p:cNvPr>
          <p:cNvSpPr/>
          <p:nvPr/>
        </p:nvSpPr>
        <p:spPr>
          <a:xfrm>
            <a:off x="324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2812" t="3772" r="0" b="0"/>
          <a:stretch/>
        </p:blipFill>
        <p:spPr>
          <a:xfrm>
            <a:off x="6095880" y="4038480"/>
            <a:ext cx="279900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6578640" y="5867280"/>
            <a:ext cx="256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Disco duro exter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553080" y="3276720"/>
            <a:ext cx="2362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Disco duro inter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5 Grupo"/>
          <p:cNvGrpSpPr/>
          <p:nvPr/>
        </p:nvGrpSpPr>
        <p:grpSpPr>
          <a:xfrm>
            <a:off x="5724360" y="1052640"/>
            <a:ext cx="3191040" cy="2376360"/>
            <a:chOff x="5724360" y="1052640"/>
            <a:chExt cx="3191040" cy="2376360"/>
          </a:xfrm>
        </p:grpSpPr>
        <p:pic>
          <p:nvPicPr>
            <p:cNvPr id="62" name="Picture 8" descr="2_discoduro_bd"/>
            <p:cNvPicPr/>
            <p:nvPr/>
          </p:nvPicPr>
          <p:blipFill>
            <a:blip r:embed="rId2"/>
            <a:stretch/>
          </p:blipFill>
          <p:spPr>
            <a:xfrm>
              <a:off x="5791320" y="1142640"/>
              <a:ext cx="3048120" cy="21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2 Conector recto"/>
            <p:cNvSpPr/>
            <p:nvPr/>
          </p:nvSpPr>
          <p:spPr>
            <a:xfrm>
              <a:off x="5724360" y="1142640"/>
              <a:ext cx="3191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4 Conector recto"/>
            <p:cNvSpPr/>
            <p:nvPr/>
          </p:nvSpPr>
          <p:spPr>
            <a:xfrm>
              <a:off x="5791320" y="105264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33520" y="1143000"/>
            <a:ext cx="80010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isten en disc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 grabados y/o l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ídos mediant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ecnología óptica,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utilizando para ello  la correspondiente unidad lectora/grabador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diferencian entre 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í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fundamentalmente, en l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pacidad de almacenamiento: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desde los 700 MB del CD a los 50 GB del Blu-ray; lo cual est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á relacionado con el hecho de que  sean de una o de doble capa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o tamb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én hay diferencias segú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sean solo de lectura (como los CD-ROM), de lectura y escritura (CD-R,DVD-R o DVD+R), regrababl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CD-RW, DVD-RW, DVD+RW), así como otras particularidades de carácter técnico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CD, DVD, Blu-ray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AutoShape 4">
            <a:hlinkClick r:id="" action="ppaction://hlinkshowjump?jump=firstslide"/>
          </p:cNvPr>
          <p:cNvSpPr/>
          <p:nvPr/>
        </p:nvSpPr>
        <p:spPr>
          <a:xfrm>
            <a:off x="324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8" name="2 Grupo"/>
          <p:cNvGrpSpPr/>
          <p:nvPr/>
        </p:nvGrpSpPr>
        <p:grpSpPr>
          <a:xfrm>
            <a:off x="5867280" y="4267080"/>
            <a:ext cx="3048120" cy="1905120"/>
            <a:chOff x="5867280" y="4267080"/>
            <a:chExt cx="3048120" cy="1905120"/>
          </a:xfrm>
        </p:grpSpPr>
        <p:pic>
          <p:nvPicPr>
            <p:cNvPr id="69" name="Picture 7" descr=""/>
            <p:cNvPicPr/>
            <p:nvPr/>
          </p:nvPicPr>
          <p:blipFill>
            <a:blip r:embed="rId1"/>
            <a:srcRect l="0" t="4162" r="0" b="0"/>
            <a:stretch/>
          </p:blipFill>
          <p:spPr>
            <a:xfrm>
              <a:off x="5901480" y="4267080"/>
              <a:ext cx="30139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1 Rectángulo"/>
            <p:cNvSpPr/>
            <p:nvPr/>
          </p:nvSpPr>
          <p:spPr>
            <a:xfrm>
              <a:off x="5867280" y="4267080"/>
              <a:ext cx="47520" cy="190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1" name="Text Box 10"/>
          <p:cNvSpPr/>
          <p:nvPr/>
        </p:nvSpPr>
        <p:spPr>
          <a:xfrm>
            <a:off x="6629400" y="6095880"/>
            <a:ext cx="2514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Unidad de CD/DV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80988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Disco DVD-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28680" y="422100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ae00"/>
                </a:solidFill>
                <a:latin typeface="Calibri"/>
              </a:rPr>
              <a:t>Disco CD-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2 Conector recto"/>
          <p:cNvSpPr/>
          <p:nvPr/>
        </p:nvSpPr>
        <p:spPr>
          <a:xfrm>
            <a:off x="3657600" y="4267080"/>
            <a:ext cx="0" cy="2041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5" name="10 Grupo"/>
          <p:cNvGrpSpPr/>
          <p:nvPr/>
        </p:nvGrpSpPr>
        <p:grpSpPr>
          <a:xfrm>
            <a:off x="3492360" y="4267080"/>
            <a:ext cx="2232000" cy="2041560"/>
            <a:chOff x="3492360" y="4267080"/>
            <a:chExt cx="2232000" cy="2041560"/>
          </a:xfrm>
        </p:grpSpPr>
        <p:grpSp>
          <p:nvGrpSpPr>
            <p:cNvPr id="76" name="7 Grupo"/>
            <p:cNvGrpSpPr/>
            <p:nvPr/>
          </p:nvGrpSpPr>
          <p:grpSpPr>
            <a:xfrm>
              <a:off x="3492360" y="4419360"/>
              <a:ext cx="2232000" cy="1843200"/>
              <a:chOff x="3492360" y="4419360"/>
              <a:chExt cx="2232000" cy="1843200"/>
            </a:xfrm>
          </p:grpSpPr>
          <p:pic>
            <p:nvPicPr>
              <p:cNvPr id="77" name="Picture 10" descr="4_dvd"/>
              <p:cNvPicPr/>
              <p:nvPr/>
            </p:nvPicPr>
            <p:blipFill>
              <a:blip r:embed="rId2"/>
              <a:stretch/>
            </p:blipFill>
            <p:spPr>
              <a:xfrm>
                <a:off x="3657960" y="4419360"/>
                <a:ext cx="1904760" cy="18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4 Conector recto"/>
              <p:cNvSpPr/>
              <p:nvPr/>
            </p:nvSpPr>
            <p:spPr>
              <a:xfrm>
                <a:off x="3492360" y="4419360"/>
                <a:ext cx="2232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79" name="9 Conector recto"/>
            <p:cNvSpPr/>
            <p:nvPr/>
          </p:nvSpPr>
          <p:spPr>
            <a:xfrm>
              <a:off x="3657960" y="4267080"/>
              <a:ext cx="0" cy="204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0" name="17 Grupo"/>
          <p:cNvGrpSpPr/>
          <p:nvPr/>
        </p:nvGrpSpPr>
        <p:grpSpPr>
          <a:xfrm>
            <a:off x="1090440" y="4525920"/>
            <a:ext cx="2186280" cy="1989360"/>
            <a:chOff x="1090440" y="4525920"/>
            <a:chExt cx="2186280" cy="1989360"/>
          </a:xfrm>
        </p:grpSpPr>
        <p:pic>
          <p:nvPicPr>
            <p:cNvPr id="81" name="Picture 13" descr="3_cd"/>
            <p:cNvPicPr/>
            <p:nvPr/>
          </p:nvPicPr>
          <p:blipFill>
            <a:blip r:embed="rId3"/>
            <a:stretch/>
          </p:blipFill>
          <p:spPr>
            <a:xfrm>
              <a:off x="1218600" y="4648320"/>
              <a:ext cx="190656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14 Conector recto"/>
            <p:cNvSpPr/>
            <p:nvPr/>
          </p:nvSpPr>
          <p:spPr>
            <a:xfrm>
              <a:off x="1090440" y="4648320"/>
              <a:ext cx="2186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16 Conector recto"/>
            <p:cNvSpPr/>
            <p:nvPr/>
          </p:nvSpPr>
          <p:spPr>
            <a:xfrm>
              <a:off x="1218600" y="4525920"/>
              <a:ext cx="0" cy="19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rcRect l="0" t="0" r="10074" b="0"/>
          <a:stretch/>
        </p:blipFill>
        <p:spPr>
          <a:xfrm>
            <a:off x="6172200" y="1295280"/>
            <a:ext cx="240336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28600" y="1136520"/>
            <a:ext cx="547200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 un tipo de memoria que posee muchas de la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racterísticas de la memoria RAM,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xcepto que sus datos no se eliminan al apagarse el ordenador o cuando se produce un corte de energí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bido a su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lta velocidad, durabilidad y bajo consumo de energí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resulta ideal para muchos usos: cámaras digitales, teléfonos móviles, PDA, videoconsolas portátiles, etc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o tiene partes móvil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lo que la hace más resistente a eventuales golpe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uede soportar un número finito de ciclos de lectura/escritur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(alrededor de varios millones) antes de fallar. Sin embargo las operaciones de escritura serán cada vez más lentas a medida que la unidad envejezc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tabLst>
                <a:tab algn="l" pos="0"/>
                <a:tab algn="l" pos="281160"/>
                <a:tab algn="l" pos="728640"/>
                <a:tab algn="l" pos="1177920"/>
                <a:tab algn="l" pos="1627200"/>
                <a:tab algn="l" pos="2076480"/>
                <a:tab algn="l" pos="2525760"/>
                <a:tab algn="l" pos="2975040"/>
                <a:tab algn="l" pos="3424320"/>
                <a:tab algn="l" pos="3873600"/>
                <a:tab algn="l" pos="4322880"/>
                <a:tab algn="l" pos="4772160"/>
                <a:tab algn="l" pos="5221440"/>
                <a:tab algn="l" pos="5670720"/>
                <a:tab algn="l" pos="6119640"/>
                <a:tab algn="l" pos="6568920"/>
                <a:tab algn="l" pos="7018200"/>
                <a:tab algn="l" pos="7467480"/>
                <a:tab algn="l" pos="7916760"/>
                <a:tab algn="l" pos="8366040"/>
                <a:tab algn="l" pos="8815320"/>
                <a:tab algn="l" pos="9264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-23760" y="0"/>
            <a:ext cx="9167760" cy="836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Memoria Flas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8680" y="6019920"/>
            <a:ext cx="312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47ff"/>
                </a:solidFill>
                <a:latin typeface="Calibri"/>
              </a:rPr>
              <a:t>Lector de tarjetas de memori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1 Botón de acción: Comienzo">
            <a:hlinkClick r:id="" action="ppaction://hlinkshowjump?jump=firstslide"/>
          </p:cNvPr>
          <p:cNvSpPr/>
          <p:nvPr/>
        </p:nvSpPr>
        <p:spPr>
          <a:xfrm>
            <a:off x="395280" y="6300720"/>
            <a:ext cx="431640" cy="365040"/>
          </a:xfrm>
          <a:custGeom>
            <a:avLst/>
            <a:gdLst>
              <a:gd name="textAreaLeft" fmla="*/ 23400 w 431640"/>
              <a:gd name="textAreaRight" fmla="*/ 408240 w 4316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5537" h="21600">
                <a:moveTo>
                  <a:pt x="0" y="0"/>
                </a:moveTo>
                <a:lnTo>
                  <a:pt x="25537" y="0"/>
                </a:lnTo>
                <a:lnTo>
                  <a:pt x="25537" y="21600"/>
                </a:lnTo>
                <a:lnTo>
                  <a:pt x="0" y="21600"/>
                </a:lnTo>
                <a:close/>
              </a:path>
              <a:path fill="lightenLess" w="25537" h="21600">
                <a:moveTo>
                  <a:pt x="0" y="0"/>
                </a:moveTo>
                <a:lnTo>
                  <a:pt x="25537" y="0"/>
                </a:lnTo>
                <a:lnTo>
                  <a:pt x="24137" y="1400"/>
                </a:lnTo>
                <a:lnTo>
                  <a:pt x="1400" y="1400"/>
                </a:lnTo>
                <a:close/>
              </a:path>
              <a:path fill="darken" w="25537" h="21600">
                <a:moveTo>
                  <a:pt x="25537" y="0"/>
                </a:moveTo>
                <a:lnTo>
                  <a:pt x="25537" y="21600"/>
                </a:lnTo>
                <a:lnTo>
                  <a:pt x="24137" y="20200"/>
                </a:lnTo>
                <a:lnTo>
                  <a:pt x="24137" y="1400"/>
                </a:lnTo>
                <a:close/>
              </a:path>
              <a:path fill="darkenLess" w="25537" h="21600">
                <a:moveTo>
                  <a:pt x="25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7" y="20200"/>
                </a:lnTo>
                <a:close/>
              </a:path>
              <a:path fill="lighten" w="25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7" h="21600">
                <a:moveTo>
                  <a:pt x="9270" y="10800"/>
                </a:moveTo>
                <a:lnTo>
                  <a:pt x="19775" y="3794"/>
                </a:lnTo>
                <a:lnTo>
                  <a:pt x="19775" y="17806"/>
                </a:lnTo>
                <a:close/>
              </a:path>
              <a:path fill="darken" w="25537" h="21600">
                <a:moveTo>
                  <a:pt x="5762" y="3794"/>
                </a:moveTo>
                <a:lnTo>
                  <a:pt x="7424" y="3794"/>
                </a:lnTo>
                <a:lnTo>
                  <a:pt x="7424" y="17806"/>
                </a:lnTo>
                <a:lnTo>
                  <a:pt x="5762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468360" y="1600200"/>
            <a:ext cx="395928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a memoria USB  es un dispositivo de almacenamiento que utiliz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emoria flash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para guardar la información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conecta mediante un puerto USB y la información que se le introduzca puede ser modificada millones de veces durante su vida útil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 más resistente a los efectos ambientales (polvo, rasguños, etc.) que los discos compactos y los DV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-23760" y="0"/>
            <a:ext cx="9167760" cy="836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Memoria USB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5 Botón de acción: Comienzo">
            <a:hlinkClick r:id="" action="ppaction://hlinkshowjump?jump=firstslide"/>
          </p:cNvPr>
          <p:cNvSpPr/>
          <p:nvPr/>
        </p:nvSpPr>
        <p:spPr>
          <a:xfrm>
            <a:off x="395280" y="6300720"/>
            <a:ext cx="431640" cy="365040"/>
          </a:xfrm>
          <a:custGeom>
            <a:avLst/>
            <a:gdLst>
              <a:gd name="textAreaLeft" fmla="*/ 23400 w 431640"/>
              <a:gd name="textAreaRight" fmla="*/ 408240 w 4316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5537" h="21600">
                <a:moveTo>
                  <a:pt x="0" y="0"/>
                </a:moveTo>
                <a:lnTo>
                  <a:pt x="25537" y="0"/>
                </a:lnTo>
                <a:lnTo>
                  <a:pt x="25537" y="21600"/>
                </a:lnTo>
                <a:lnTo>
                  <a:pt x="0" y="21600"/>
                </a:lnTo>
                <a:close/>
              </a:path>
              <a:path fill="lightenLess" w="25537" h="21600">
                <a:moveTo>
                  <a:pt x="0" y="0"/>
                </a:moveTo>
                <a:lnTo>
                  <a:pt x="25537" y="0"/>
                </a:lnTo>
                <a:lnTo>
                  <a:pt x="24137" y="1400"/>
                </a:lnTo>
                <a:lnTo>
                  <a:pt x="1400" y="1400"/>
                </a:lnTo>
                <a:close/>
              </a:path>
              <a:path fill="darken" w="25537" h="21600">
                <a:moveTo>
                  <a:pt x="25537" y="0"/>
                </a:moveTo>
                <a:lnTo>
                  <a:pt x="25537" y="21600"/>
                </a:lnTo>
                <a:lnTo>
                  <a:pt x="24137" y="20200"/>
                </a:lnTo>
                <a:lnTo>
                  <a:pt x="24137" y="1400"/>
                </a:lnTo>
                <a:close/>
              </a:path>
              <a:path fill="darkenLess" w="25537" h="21600">
                <a:moveTo>
                  <a:pt x="25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7" y="20200"/>
                </a:lnTo>
                <a:close/>
              </a:path>
              <a:path fill="lighten" w="25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7" h="21600">
                <a:moveTo>
                  <a:pt x="9270" y="10800"/>
                </a:moveTo>
                <a:lnTo>
                  <a:pt x="19775" y="3794"/>
                </a:lnTo>
                <a:lnTo>
                  <a:pt x="19775" y="17806"/>
                </a:lnTo>
                <a:close/>
              </a:path>
              <a:path fill="darken" w="25537" h="21600">
                <a:moveTo>
                  <a:pt x="5762" y="3794"/>
                </a:moveTo>
                <a:lnTo>
                  <a:pt x="7424" y="3794"/>
                </a:lnTo>
                <a:lnTo>
                  <a:pt x="7424" y="17806"/>
                </a:lnTo>
                <a:lnTo>
                  <a:pt x="5762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2" name="5 Grupo"/>
          <p:cNvGrpSpPr/>
          <p:nvPr/>
        </p:nvGrpSpPr>
        <p:grpSpPr>
          <a:xfrm>
            <a:off x="4559400" y="4149720"/>
            <a:ext cx="4260600" cy="2151000"/>
            <a:chOff x="4559400" y="4149720"/>
            <a:chExt cx="4260600" cy="2151000"/>
          </a:xfrm>
        </p:grpSpPr>
        <p:pic>
          <p:nvPicPr>
            <p:cNvPr id="93" name="Picture 4" descr=""/>
            <p:cNvPicPr/>
            <p:nvPr/>
          </p:nvPicPr>
          <p:blipFill>
            <a:blip r:embed="rId1"/>
            <a:stretch/>
          </p:blipFill>
          <p:spPr>
            <a:xfrm>
              <a:off x="4723560" y="4267800"/>
              <a:ext cx="3886560" cy="186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2 Conector recto"/>
            <p:cNvSpPr/>
            <p:nvPr/>
          </p:nvSpPr>
          <p:spPr>
            <a:xfrm>
              <a:off x="4559400" y="4267800"/>
              <a:ext cx="426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4 Conector recto"/>
            <p:cNvSpPr/>
            <p:nvPr/>
          </p:nvSpPr>
          <p:spPr>
            <a:xfrm>
              <a:off x="4723560" y="4149720"/>
              <a:ext cx="0" cy="2151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6" name="10 Grupo"/>
          <p:cNvGrpSpPr/>
          <p:nvPr/>
        </p:nvGrpSpPr>
        <p:grpSpPr>
          <a:xfrm>
            <a:off x="4724280" y="1484280"/>
            <a:ext cx="3664080" cy="2305080"/>
            <a:chOff x="4724280" y="1484280"/>
            <a:chExt cx="3664080" cy="2305080"/>
          </a:xfrm>
        </p:grpSpPr>
        <p:pic>
          <p:nvPicPr>
            <p:cNvPr id="97" name="Picture 3" descr=""/>
            <p:cNvPicPr/>
            <p:nvPr/>
          </p:nvPicPr>
          <p:blipFill>
            <a:blip r:embed="rId2"/>
            <a:stretch/>
          </p:blipFill>
          <p:spPr>
            <a:xfrm>
              <a:off x="4860720" y="1613880"/>
              <a:ext cx="3368880" cy="202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7 Conector recto"/>
            <p:cNvSpPr/>
            <p:nvPr/>
          </p:nvSpPr>
          <p:spPr>
            <a:xfrm>
              <a:off x="4724280" y="1613880"/>
              <a:ext cx="366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9 Conector recto"/>
            <p:cNvSpPr/>
            <p:nvPr/>
          </p:nvSpPr>
          <p:spPr>
            <a:xfrm>
              <a:off x="4860720" y="1484280"/>
              <a:ext cx="0" cy="230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533520" y="1143000"/>
            <a:ext cx="4876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isten muchos tipos de tarjetas de memoria (casi una por fabricante) que compiten y son incompatibles entre ellas. Algunos de los formatos más comunes son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D (Secure Digital) y SDHC </a:t>
            </a: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(Secure Digital High Capacity)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ini SD y micro S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MC </a:t>
            </a: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(Multimedia Card)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emory Stick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mpact Flash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-23760" y="0"/>
            <a:ext cx="9167760" cy="836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Tipos de tarjetas de memor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5092560" cy="3065400"/>
          </a:xfrm>
          <a:prstGeom prst="rect">
            <a:avLst/>
          </a:prstGeom>
          <a:ln w="0">
            <a:noFill/>
          </a:ln>
        </p:spPr>
      </p:pic>
      <p:sp>
        <p:nvSpPr>
          <p:cNvPr id="103" name="4 Botón de acción: Comienzo">
            <a:hlinkClick r:id="" action="ppaction://hlinkshowjump?jump=firstslide"/>
          </p:cNvPr>
          <p:cNvSpPr/>
          <p:nvPr/>
        </p:nvSpPr>
        <p:spPr>
          <a:xfrm>
            <a:off x="395280" y="6300720"/>
            <a:ext cx="431640" cy="365040"/>
          </a:xfrm>
          <a:custGeom>
            <a:avLst/>
            <a:gdLst>
              <a:gd name="textAreaLeft" fmla="*/ 23400 w 431640"/>
              <a:gd name="textAreaRight" fmla="*/ 408240 w 4316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5537" h="21600">
                <a:moveTo>
                  <a:pt x="0" y="0"/>
                </a:moveTo>
                <a:lnTo>
                  <a:pt x="25537" y="0"/>
                </a:lnTo>
                <a:lnTo>
                  <a:pt x="25537" y="21600"/>
                </a:lnTo>
                <a:lnTo>
                  <a:pt x="0" y="21600"/>
                </a:lnTo>
                <a:close/>
              </a:path>
              <a:path fill="lightenLess" w="25537" h="21600">
                <a:moveTo>
                  <a:pt x="0" y="0"/>
                </a:moveTo>
                <a:lnTo>
                  <a:pt x="25537" y="0"/>
                </a:lnTo>
                <a:lnTo>
                  <a:pt x="24137" y="1400"/>
                </a:lnTo>
                <a:lnTo>
                  <a:pt x="1400" y="1400"/>
                </a:lnTo>
                <a:close/>
              </a:path>
              <a:path fill="darken" w="25537" h="21600">
                <a:moveTo>
                  <a:pt x="25537" y="0"/>
                </a:moveTo>
                <a:lnTo>
                  <a:pt x="25537" y="21600"/>
                </a:lnTo>
                <a:lnTo>
                  <a:pt x="24137" y="20200"/>
                </a:lnTo>
                <a:lnTo>
                  <a:pt x="24137" y="1400"/>
                </a:lnTo>
                <a:close/>
              </a:path>
              <a:path fill="darkenLess" w="25537" h="21600">
                <a:moveTo>
                  <a:pt x="25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7" y="20200"/>
                </a:lnTo>
                <a:close/>
              </a:path>
              <a:path fill="lighten" w="25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7" h="21600">
                <a:moveTo>
                  <a:pt x="9270" y="10800"/>
                </a:moveTo>
                <a:lnTo>
                  <a:pt x="19775" y="3794"/>
                </a:lnTo>
                <a:lnTo>
                  <a:pt x="19775" y="17806"/>
                </a:lnTo>
                <a:close/>
              </a:path>
              <a:path fill="darken" w="25537" h="21600">
                <a:moveTo>
                  <a:pt x="5762" y="3794"/>
                </a:moveTo>
                <a:lnTo>
                  <a:pt x="7424" y="3794"/>
                </a:lnTo>
                <a:lnTo>
                  <a:pt x="7424" y="17806"/>
                </a:lnTo>
                <a:lnTo>
                  <a:pt x="5762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33520" y="1447920"/>
            <a:ext cx="5333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 un dispositivo de almacenamiento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equeño tamaño y gran capacidad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utilizado por la mayoría de los principales fabricantes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ámaras fotográficas: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Kodak, Konica Minolta, Panasonic, Canon, Nikon..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u vers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ón más moderna son las tarjeta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DHC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uya capacidad de almacenamiento es mayor de 2GB y la velocidad de acceso a los datos es más alta que en las tradicionales tarjetas S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-23760" y="0"/>
            <a:ext cx="9167760" cy="836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Tarjeta de memoria S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5 Botón de acción: Comienzo">
            <a:hlinkClick r:id="" action="ppaction://hlinkshowjump?jump=firstslide"/>
          </p:cNvPr>
          <p:cNvSpPr/>
          <p:nvPr/>
        </p:nvSpPr>
        <p:spPr>
          <a:xfrm>
            <a:off x="395280" y="6300720"/>
            <a:ext cx="431640" cy="365040"/>
          </a:xfrm>
          <a:custGeom>
            <a:avLst/>
            <a:gdLst>
              <a:gd name="textAreaLeft" fmla="*/ 23400 w 431640"/>
              <a:gd name="textAreaRight" fmla="*/ 408240 w 4316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5537" h="21600">
                <a:moveTo>
                  <a:pt x="0" y="0"/>
                </a:moveTo>
                <a:lnTo>
                  <a:pt x="25537" y="0"/>
                </a:lnTo>
                <a:lnTo>
                  <a:pt x="25537" y="21600"/>
                </a:lnTo>
                <a:lnTo>
                  <a:pt x="0" y="21600"/>
                </a:lnTo>
                <a:close/>
              </a:path>
              <a:path fill="lightenLess" w="25537" h="21600">
                <a:moveTo>
                  <a:pt x="0" y="0"/>
                </a:moveTo>
                <a:lnTo>
                  <a:pt x="25537" y="0"/>
                </a:lnTo>
                <a:lnTo>
                  <a:pt x="24137" y="1400"/>
                </a:lnTo>
                <a:lnTo>
                  <a:pt x="1400" y="1400"/>
                </a:lnTo>
                <a:close/>
              </a:path>
              <a:path fill="darken" w="25537" h="21600">
                <a:moveTo>
                  <a:pt x="25537" y="0"/>
                </a:moveTo>
                <a:lnTo>
                  <a:pt x="25537" y="21600"/>
                </a:lnTo>
                <a:lnTo>
                  <a:pt x="24137" y="20200"/>
                </a:lnTo>
                <a:lnTo>
                  <a:pt x="24137" y="1400"/>
                </a:lnTo>
                <a:close/>
              </a:path>
              <a:path fill="darkenLess" w="25537" h="21600">
                <a:moveTo>
                  <a:pt x="25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7" y="20200"/>
                </a:lnTo>
                <a:close/>
              </a:path>
              <a:path fill="lighten" w="25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7" h="21600">
                <a:moveTo>
                  <a:pt x="9270" y="10800"/>
                </a:moveTo>
                <a:lnTo>
                  <a:pt x="19775" y="3794"/>
                </a:lnTo>
                <a:lnTo>
                  <a:pt x="19775" y="17806"/>
                </a:lnTo>
                <a:close/>
              </a:path>
              <a:path fill="darken" w="25537" h="21600">
                <a:moveTo>
                  <a:pt x="5762" y="3794"/>
                </a:moveTo>
                <a:lnTo>
                  <a:pt x="7424" y="3794"/>
                </a:lnTo>
                <a:lnTo>
                  <a:pt x="7424" y="17806"/>
                </a:lnTo>
                <a:lnTo>
                  <a:pt x="5762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1 Botón de acción: Hacia delante o Siguiente">
            <a:hlinkClick r:id="" action="ppaction://hlinkshowjump?jump=nextslide"/>
          </p:cNvPr>
          <p:cNvSpPr/>
          <p:nvPr/>
        </p:nvSpPr>
        <p:spPr>
          <a:xfrm>
            <a:off x="900000" y="6300720"/>
            <a:ext cx="432000" cy="365040"/>
          </a:xfrm>
          <a:custGeom>
            <a:avLst/>
            <a:gdLst>
              <a:gd name="textAreaLeft" fmla="*/ 23400 w 432000"/>
              <a:gd name="textAreaRight" fmla="*/ 408600 w 43200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5558" h="21600">
                <a:moveTo>
                  <a:pt x="0" y="0"/>
                </a:moveTo>
                <a:lnTo>
                  <a:pt x="25558" y="0"/>
                </a:lnTo>
                <a:lnTo>
                  <a:pt x="25558" y="21600"/>
                </a:lnTo>
                <a:lnTo>
                  <a:pt x="0" y="21600"/>
                </a:lnTo>
                <a:close/>
              </a:path>
              <a:path fill="lightenLess" w="25558" h="21600">
                <a:moveTo>
                  <a:pt x="0" y="0"/>
                </a:moveTo>
                <a:lnTo>
                  <a:pt x="25558" y="0"/>
                </a:lnTo>
                <a:lnTo>
                  <a:pt x="24158" y="1400"/>
                </a:lnTo>
                <a:lnTo>
                  <a:pt x="1400" y="1400"/>
                </a:lnTo>
                <a:close/>
              </a:path>
              <a:path fill="darken" w="25558" h="21600">
                <a:moveTo>
                  <a:pt x="25558" y="0"/>
                </a:moveTo>
                <a:lnTo>
                  <a:pt x="25558" y="21600"/>
                </a:lnTo>
                <a:lnTo>
                  <a:pt x="24158" y="20200"/>
                </a:lnTo>
                <a:lnTo>
                  <a:pt x="24158" y="1400"/>
                </a:lnTo>
                <a:close/>
              </a:path>
              <a:path fill="darkenLess" w="25558" h="21600">
                <a:moveTo>
                  <a:pt x="2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58" y="20200"/>
                </a:lnTo>
                <a:close/>
              </a:path>
              <a:path fill="lighten" w="2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58" h="21600">
                <a:moveTo>
                  <a:pt x="5773" y="3794"/>
                </a:moveTo>
                <a:lnTo>
                  <a:pt x="19786" y="10800"/>
                </a:lnTo>
                <a:lnTo>
                  <a:pt x="577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8" name="5 Grupo"/>
          <p:cNvGrpSpPr/>
          <p:nvPr/>
        </p:nvGrpSpPr>
        <p:grpSpPr>
          <a:xfrm>
            <a:off x="5867280" y="1219320"/>
            <a:ext cx="3241800" cy="3578040"/>
            <a:chOff x="5867280" y="1219320"/>
            <a:chExt cx="3241800" cy="3578040"/>
          </a:xfrm>
        </p:grpSpPr>
        <p:pic>
          <p:nvPicPr>
            <p:cNvPr id="109" name="Picture 1" descr=""/>
            <p:cNvPicPr/>
            <p:nvPr/>
          </p:nvPicPr>
          <p:blipFill>
            <a:blip r:embed="rId1"/>
            <a:stretch/>
          </p:blipFill>
          <p:spPr>
            <a:xfrm>
              <a:off x="5968440" y="1219320"/>
              <a:ext cx="300924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2 Conector recto"/>
            <p:cNvSpPr/>
            <p:nvPr/>
          </p:nvSpPr>
          <p:spPr>
            <a:xfrm>
              <a:off x="5867280" y="1219320"/>
              <a:ext cx="3241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4 Conector recto"/>
            <p:cNvSpPr/>
            <p:nvPr/>
          </p:nvSpPr>
          <p:spPr>
            <a:xfrm>
              <a:off x="5968440" y="1219320"/>
              <a:ext cx="0" cy="307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2" name="11 Grupo"/>
          <p:cNvGrpSpPr/>
          <p:nvPr/>
        </p:nvGrpSpPr>
        <p:grpSpPr>
          <a:xfrm>
            <a:off x="3492360" y="3933720"/>
            <a:ext cx="2662200" cy="2664000"/>
            <a:chOff x="3492360" y="3933720"/>
            <a:chExt cx="2662200" cy="2664000"/>
          </a:xfrm>
        </p:grpSpPr>
        <p:grpSp>
          <p:nvGrpSpPr>
            <p:cNvPr id="113" name="10 Grupo"/>
            <p:cNvGrpSpPr/>
            <p:nvPr/>
          </p:nvGrpSpPr>
          <p:grpSpPr>
            <a:xfrm>
              <a:off x="3492360" y="4066200"/>
              <a:ext cx="2662200" cy="2417760"/>
              <a:chOff x="3492360" y="4066200"/>
              <a:chExt cx="2662200" cy="2417760"/>
            </a:xfrm>
          </p:grpSpPr>
          <p:pic>
            <p:nvPicPr>
              <p:cNvPr id="114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4360" y="4066200"/>
                <a:ext cx="2590200" cy="24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7 Conector recto"/>
              <p:cNvSpPr/>
              <p:nvPr/>
            </p:nvSpPr>
            <p:spPr>
              <a:xfrm>
                <a:off x="3492360" y="4066200"/>
                <a:ext cx="266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6" name="9 Conector recto"/>
            <p:cNvSpPr/>
            <p:nvPr/>
          </p:nvSpPr>
          <p:spPr>
            <a:xfrm>
              <a:off x="3564360" y="3933720"/>
              <a:ext cx="0" cy="266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3142" t="3118" r="0" b="0"/>
          <a:stretch/>
        </p:blipFill>
        <p:spPr>
          <a:xfrm>
            <a:off x="5446800" y="1849320"/>
            <a:ext cx="3468600" cy="2981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"/>
          <p:cNvSpPr/>
          <p:nvPr/>
        </p:nvSpPr>
        <p:spPr>
          <a:xfrm>
            <a:off x="609480" y="14479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 un tipo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arjeta SD de tamaño más pequeñ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diseñó inicialmente par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eléfonos móvil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le puede incorporar un adaptador que permite la compatibilidad con todos los dispositivos equipados con una ranura de tarjeta S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-23760" y="0"/>
            <a:ext cx="9167760" cy="836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Tarjeta mini S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5"/>
          <p:cNvSpPr/>
          <p:nvPr/>
        </p:nvSpPr>
        <p:spPr>
          <a:xfrm flipH="1">
            <a:off x="2077560" y="5373720"/>
            <a:ext cx="1086120" cy="539640"/>
          </a:xfrm>
          <a:prstGeom prst="line">
            <a:avLst/>
          </a:prstGeom>
          <a:ln w="108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53920" y="5729400"/>
            <a:ext cx="3218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47ff"/>
                </a:solidFill>
                <a:latin typeface="Calibri"/>
              </a:rPr>
              <a:t>Adaptad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7 Botón de acción: Comienzo">
            <a:hlinkClick r:id="" action="ppaction://hlinkshowjump?jump=firstslide"/>
          </p:cNvPr>
          <p:cNvSpPr/>
          <p:nvPr/>
        </p:nvSpPr>
        <p:spPr>
          <a:xfrm>
            <a:off x="395280" y="6300720"/>
            <a:ext cx="431640" cy="365040"/>
          </a:xfrm>
          <a:custGeom>
            <a:avLst/>
            <a:gdLst>
              <a:gd name="textAreaLeft" fmla="*/ 23400 w 431640"/>
              <a:gd name="textAreaRight" fmla="*/ 408240 w 4316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5537" h="21600">
                <a:moveTo>
                  <a:pt x="0" y="0"/>
                </a:moveTo>
                <a:lnTo>
                  <a:pt x="25537" y="0"/>
                </a:lnTo>
                <a:lnTo>
                  <a:pt x="25537" y="21600"/>
                </a:lnTo>
                <a:lnTo>
                  <a:pt x="0" y="21600"/>
                </a:lnTo>
                <a:close/>
              </a:path>
              <a:path fill="lightenLess" w="25537" h="21600">
                <a:moveTo>
                  <a:pt x="0" y="0"/>
                </a:moveTo>
                <a:lnTo>
                  <a:pt x="25537" y="0"/>
                </a:lnTo>
                <a:lnTo>
                  <a:pt x="24137" y="1400"/>
                </a:lnTo>
                <a:lnTo>
                  <a:pt x="1400" y="1400"/>
                </a:lnTo>
                <a:close/>
              </a:path>
              <a:path fill="darken" w="25537" h="21600">
                <a:moveTo>
                  <a:pt x="25537" y="0"/>
                </a:moveTo>
                <a:lnTo>
                  <a:pt x="25537" y="21600"/>
                </a:lnTo>
                <a:lnTo>
                  <a:pt x="24137" y="20200"/>
                </a:lnTo>
                <a:lnTo>
                  <a:pt x="24137" y="1400"/>
                </a:lnTo>
                <a:close/>
              </a:path>
              <a:path fill="darkenLess" w="25537" h="21600">
                <a:moveTo>
                  <a:pt x="25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7" y="20200"/>
                </a:lnTo>
                <a:close/>
              </a:path>
              <a:path fill="lighten" w="25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7" h="21600">
                <a:moveTo>
                  <a:pt x="9270" y="10800"/>
                </a:moveTo>
                <a:lnTo>
                  <a:pt x="19775" y="3794"/>
                </a:lnTo>
                <a:lnTo>
                  <a:pt x="19775" y="17806"/>
                </a:lnTo>
                <a:close/>
              </a:path>
              <a:path fill="darken" w="25537" h="21600">
                <a:moveTo>
                  <a:pt x="5762" y="3794"/>
                </a:moveTo>
                <a:lnTo>
                  <a:pt x="7424" y="3794"/>
                </a:lnTo>
                <a:lnTo>
                  <a:pt x="7424" y="17806"/>
                </a:lnTo>
                <a:lnTo>
                  <a:pt x="5762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8 Botón de acción: Hacia delante o Siguiente">
            <a:hlinkClick r:id="" action="ppaction://hlinkshowjump?jump=nextslide"/>
          </p:cNvPr>
          <p:cNvSpPr/>
          <p:nvPr/>
        </p:nvSpPr>
        <p:spPr>
          <a:xfrm>
            <a:off x="900000" y="6300720"/>
            <a:ext cx="432000" cy="365040"/>
          </a:xfrm>
          <a:custGeom>
            <a:avLst/>
            <a:gdLst>
              <a:gd name="textAreaLeft" fmla="*/ 23400 w 432000"/>
              <a:gd name="textAreaRight" fmla="*/ 408600 w 43200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5558" h="21600">
                <a:moveTo>
                  <a:pt x="0" y="0"/>
                </a:moveTo>
                <a:lnTo>
                  <a:pt x="25558" y="0"/>
                </a:lnTo>
                <a:lnTo>
                  <a:pt x="25558" y="21600"/>
                </a:lnTo>
                <a:lnTo>
                  <a:pt x="0" y="21600"/>
                </a:lnTo>
                <a:close/>
              </a:path>
              <a:path fill="lightenLess" w="25558" h="21600">
                <a:moveTo>
                  <a:pt x="0" y="0"/>
                </a:moveTo>
                <a:lnTo>
                  <a:pt x="25558" y="0"/>
                </a:lnTo>
                <a:lnTo>
                  <a:pt x="24158" y="1400"/>
                </a:lnTo>
                <a:lnTo>
                  <a:pt x="1400" y="1400"/>
                </a:lnTo>
                <a:close/>
              </a:path>
              <a:path fill="darken" w="25558" h="21600">
                <a:moveTo>
                  <a:pt x="25558" y="0"/>
                </a:moveTo>
                <a:lnTo>
                  <a:pt x="25558" y="21600"/>
                </a:lnTo>
                <a:lnTo>
                  <a:pt x="24158" y="20200"/>
                </a:lnTo>
                <a:lnTo>
                  <a:pt x="24158" y="1400"/>
                </a:lnTo>
                <a:close/>
              </a:path>
              <a:path fill="darkenLess" w="25558" h="21600">
                <a:moveTo>
                  <a:pt x="2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58" y="20200"/>
                </a:lnTo>
                <a:close/>
              </a:path>
              <a:path fill="lighten" w="2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58" h="21600">
                <a:moveTo>
                  <a:pt x="5773" y="3794"/>
                </a:moveTo>
                <a:lnTo>
                  <a:pt x="19786" y="10800"/>
                </a:lnTo>
                <a:lnTo>
                  <a:pt x="577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4" name="5 Grupo"/>
          <p:cNvGrpSpPr/>
          <p:nvPr/>
        </p:nvGrpSpPr>
        <p:grpSpPr>
          <a:xfrm>
            <a:off x="1981080" y="3919680"/>
            <a:ext cx="3276720" cy="2563560"/>
            <a:chOff x="1981080" y="3919680"/>
            <a:chExt cx="3276720" cy="2563560"/>
          </a:xfrm>
        </p:grpSpPr>
        <p:pic>
          <p:nvPicPr>
            <p:cNvPr id="125" name="Picture 3" descr=""/>
            <p:cNvPicPr/>
            <p:nvPr/>
          </p:nvPicPr>
          <p:blipFill>
            <a:blip r:embed="rId2"/>
            <a:stretch/>
          </p:blipFill>
          <p:spPr>
            <a:xfrm>
              <a:off x="1981080" y="3919680"/>
              <a:ext cx="327672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2 Conector recto"/>
            <p:cNvSpPr/>
            <p:nvPr/>
          </p:nvSpPr>
          <p:spPr>
            <a:xfrm>
              <a:off x="1981080" y="3919680"/>
              <a:ext cx="327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4 Conector recto"/>
            <p:cNvSpPr/>
            <p:nvPr/>
          </p:nvSpPr>
          <p:spPr>
            <a:xfrm>
              <a:off x="1981080" y="3919680"/>
              <a:ext cx="0" cy="256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15:58:24Z</dcterms:created>
  <dc:creator>Enrique Sanchez Ludeña</dc:creator>
  <dc:description/>
  <dc:language>en-US</dc:language>
  <cp:lastModifiedBy>Enrique Sanchez Ludeña</cp:lastModifiedBy>
  <cp:lastPrinted>2009-04-22T19:24:48Z</cp:lastPrinted>
  <dcterms:modified xsi:type="dcterms:W3CDTF">2012-06-12T10:07:27Z</dcterms:modified>
  <cp:revision>52</cp:revision>
  <dc:subject/>
  <dc:title>Dispositivos con prestaciones de ordenador</dc:title>
</cp:coreProperties>
</file>